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BCDB-CBEA-4BE6-88D7-1211803A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74DC-85F1-4FD5-8203-93C5ED5E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4DC-DA65-4EEB-88CF-4C5CD979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47B-01AA-4F5C-A177-03AFC785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C3FE-7C61-4E69-B463-AEC9A0D1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B896-EFD3-4187-9506-48CDB1F5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0592-C1EE-4B90-A4A3-D8375B05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936B-593E-4D75-8EE2-9AE92380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3FB5-A8FF-44A5-B79C-13D00797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97FC-54CE-4302-9A2D-EF0E4CD5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DC7E-C7F9-4464-81B4-042E2A6D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C97-D4D0-4720-BBB4-A6B067B8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9B1D-35D6-44E1-9A91-B276E859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1AFC-7A00-400F-8A42-F86A4CA5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67FF-7547-4679-8225-243FFC90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A1E0-59AA-407E-9890-2B4C6117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7857-CB23-4B5D-8116-154A5C09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2D45-7ABA-4E63-A7A5-711FC0C3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6B6-0E6F-4D9C-AF9A-0BFF2D28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830-E096-4471-AF6C-8241FDDC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0DAF-4907-41D1-A501-77BFC273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AFC-5F97-4B9D-B356-98565D5B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0A9-8AE9-4BBE-8CC3-81FF992A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22F-5388-4A11-9519-B64AE0D9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8E63-0EC5-430F-9A03-03026DA1299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6E1F-5896-4DB3-B89F-37C55F14360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FRUMOSU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549440" y="4059000"/>
            <a:ext cx="604512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cc00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ş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292720" y="177336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2b2</cp:lastModifiedBy>
  <dcterms:modified xsi:type="dcterms:W3CDTF">2012-06-19T11:31:36Z</dcterms:modified>
  <cp:revision>38</cp:revision>
  <dc:subject/>
  <dc:title>SALARIUL</dc:title>
</cp:coreProperties>
</file>